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9F0-953E-4474-A708-54E9247B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67D-87D1-4CBA-97AE-5A61E975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5F3-2073-46EE-91BF-D9301EAE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01F-798B-45F6-A3A4-BF18B39A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7CD-953B-47D1-9189-2EAE2CD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422-EC88-42A2-B84D-7102BEC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4D5-8C37-4EF0-919F-1E4FFC0A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E06-F5CF-4FAE-B59E-4662EE7D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440-7A01-4DDD-AED6-61B5EF9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EEF-30FD-4559-84D5-1DB9F89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B8C-4478-4C85-B9AF-FBD54E4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EA0-8F1A-46CB-BA41-50D42F8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254-59F1-4169-9029-29ECAAA47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8440" t="46877" r="28908" b="26042"/>
          <a:stretch/>
        </p:blipFill>
        <p:spPr>
          <a:xfrm>
            <a:off x="4419720" y="4156200"/>
            <a:ext cx="114300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27:20Z</dcterms:created>
  <dc:creator>Patrick J. Mooney</dc:creator>
  <dc:description/>
  <dc:language>en-US</dc:language>
  <cp:lastModifiedBy>Patrick J. Mooney</cp:lastModifiedBy>
  <dcterms:modified xsi:type="dcterms:W3CDTF">2010-02-22T19:34:41Z</dcterms:modified>
  <cp:revision>2</cp:revision>
  <dc:subject/>
  <dc:title>Slide 1</dc:title>
</cp:coreProperties>
</file>